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png" ContentType="image/pn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784F-0F9D-4D54-B283-D842E0F72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0064-B746-4F34-9F36-A8A9F14F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0A43-3C0E-4805-9FFE-D8A8D0FBC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053E-37D2-4261-867E-4F55107A4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756A-A0BD-470F-89D3-71B8909A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4F33-D526-4A02-96B9-E179719C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D17C-CF07-4003-A7BF-345D6C46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7139-EDA3-4667-990B-52E03C49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DB84-C1DF-43B7-AB09-3CECB16F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F6BF-C351-4480-8AD2-0DC93637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A8B8-2C8B-47E5-A6AA-91302E2A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5C82-2012-477E-B48B-ED967B68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A996-BDF7-46DB-96DD-52E0994B0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dnalc.org/view/15014-Franklin-s-X-ray-diffraction-explanation-of-X-ray-pattern-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dnaftb.org/dnaftb/19/concept/index.html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naftb.org/dnaftb/15/concept/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lecular Gen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18000" y="2897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or prote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fred Hershey &amp; Martha Chase (195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acteria cells contained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but no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ulture medium (containing viral protein coats) contained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or prote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2" marL="104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</a:rPr>
              <a:t>http://highered.mcgraw-hill.com/sites/0072437316/student_view0/chapter14/animation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676520" y="15588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lecular Gen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sition of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win Chargaff (194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isolated DNA from different organisms and measured levels of each of the 4 nitrogenous 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mts of adenine = amts of thy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mts of cytosine = amounts of guan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salind Franklin (1953)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stanford.edu/group/ccr/blog/2009/04/a_closer_look_1.ht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d X-ray diffraction images of DNA that suggested its double helix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animation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nalc.org/view/15014-Franklin-s-X-ray-diffraction-explanation-of-X-ray-pattern-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648320" y="2120760"/>
            <a:ext cx="380988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of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mes Watson &amp; Francis Crick (195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used information from Chargaff and Franklin’s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roposed a model of DNA with a double helix of 2 anti-parallel str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won the Nobel Prize in 1962 for deducing the structure of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naftb.org/dnaftb/19/concept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of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es Watson &amp; Francis Crick (195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14600" y="2538360"/>
            <a:ext cx="3554280" cy="39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of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also 1.2 (pages 52-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ic Acid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giangleblog.wordpress.com/2011/05/02/edit-5-dna-structure-group-b/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mers 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nucleoti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carbon sugar (ribose or deoxy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ous base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sphate group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48320" y="2533680"/>
            <a:ext cx="380988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NA vs DNA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biology.lsu.edu/introbio/summer/Summer2004/1201/RF/Chapter%205%20review.h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046240" y="1981080"/>
            <a:ext cx="5051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overy of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drich Miescher (late 1860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collected used bandages at hospitals and immersed in salt solution (to release cel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kaline solution caused lysis of cells and nuclei to precipitate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ed substance with high P content in the nuclei, called it “nuclei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naftb.org/dnaftb/15/concep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NA vs DNA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dedunn.edublogs.org/2011/06/08/structure-of-dna-and-rna/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773440" y="1981080"/>
            <a:ext cx="3597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&amp; RNA Directionality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phschool.com/science/biology_place/biocoach/transcription/chains.ht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425680" y="1981080"/>
            <a:ext cx="4291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derick Griffiths (1920s)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thefullwiki.org/Griffiths_experi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16080" y="1981080"/>
            <a:ext cx="491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achim Hämmerling (1930s)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seavegetables.com/handbook/genera/greens/Acetabularia/Acetabularia.h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s with single-celled alga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etabul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d that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ucle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organelle that contains hereditary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ämmerling Expts (1930s)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accessexcellence.org/RC/VL/GG/hammerling_s.ph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12960" y="1981080"/>
            <a:ext cx="3716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ämmerling Expts (1930s)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biologie.uni-hamburg.de/b-online/e14/9.h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90920" y="2057400"/>
            <a:ext cx="3809880" cy="1785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90920" y="4191120"/>
            <a:ext cx="3782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or protein?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textbookofbacteriology.net/phage.ht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fred Hershey &amp; Martha Chase (195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s with virus:  bacteriophage 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teriophage infects bacteria cells by attaching itself and injecting its DNA into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48320" y="2784600"/>
            <a:ext cx="380988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or prote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ophage cells infecting bacteria cel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36600" y="3200400"/>
            <a:ext cx="3030480" cy="2595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410080" y="3200400"/>
            <a:ext cx="208620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or prote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fred Hershey &amp; Martha Chase (195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roteins contain sulfur but not phosp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DNA contains phosphorus but not sulf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Hershey &amp; Chase tagged viral proteins with radioisotope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and viral DNA with radioisotope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fter infection by labelled bacteriophages, bacteria cells were isolated from protein coats of vir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0:16:36Z</dcterms:created>
  <dc:creator>rubina khan</dc:creator>
  <dc:description/>
  <dc:language>en-US</dc:language>
  <cp:lastModifiedBy>rubina khan</cp:lastModifiedBy>
  <dcterms:modified xsi:type="dcterms:W3CDTF">2011-11-08T16:55:26Z</dcterms:modified>
  <cp:revision>60</cp:revision>
  <dc:subject/>
  <dc:title>Molecular Genetics</dc:title>
</cp:coreProperties>
</file>